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72334"/>
        <c:axId val="33536412"/>
      </c:barChart>
      <c:catAx>
        <c:axId val="80472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36412"/>
        <c:crosses val="autoZero"/>
        <c:auto val="1"/>
        <c:lblAlgn val="ctr"/>
        <c:lblOffset val="100"/>
        <c:noMultiLvlLbl val="0"/>
      </c:catAx>
      <c:valAx>
        <c:axId val="3353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2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7B9-F0D4-4C86-A283-48C93347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97C-612D-4D57-939A-E55FB367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DF4-DE9A-4E1A-B0A1-39875464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ECA-955B-484B-ABF9-4CC4708D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B01-02F9-46C7-95D5-C83803C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C16-E31A-4233-AE7F-4442C912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B69-AC7B-4262-8DAE-0068A82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429-BF83-4C53-92BB-7E10CFE7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99B-10C9-42C1-9FE6-CCDE1B36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549-FB66-43D6-AAC4-B38ED82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3E8-BF3C-4D06-B601-4F8A5EF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B26-AD5F-433B-B2FB-0E5E726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BCD0-798B-403D-8509-7516F8247E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