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554105"/>
        <c:axId val="22953830"/>
      </c:barChart>
      <c:catAx>
        <c:axId val="815541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53830"/>
        <c:crosses val="autoZero"/>
        <c:auto val="1"/>
        <c:lblAlgn val="ctr"/>
        <c:lblOffset val="100"/>
        <c:noMultiLvlLbl val="0"/>
      </c:catAx>
      <c:valAx>
        <c:axId val="229538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541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DF97-C91B-4B57-83A1-B85F6AF0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FD8D-CA9F-4E77-8FF3-39D39207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6DC1-6129-4630-B136-1D4C15F1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D78C-6DF2-4D35-878F-1FB2C338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6A44-189D-4A8D-B133-89277534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701C-51D7-4900-9D80-7486441B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337F-A25D-44AB-99A8-707BFAA8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8BB0-7338-4E56-82EB-4AC68D0A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1E6-BB22-432F-9D8D-4697AE0B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E920-52ED-453F-804D-C2B8FD52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D8B-C51B-4905-885E-025A241C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FCBB-9810-43D9-B0B9-04C36DC6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153ED-10EA-4568-A937-AF6E9A516B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