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0615"/>
        <c:axId val="30922641"/>
      </c:barChart>
      <c:catAx>
        <c:axId val="2390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22641"/>
        <c:crosses val="autoZero"/>
        <c:auto val="1"/>
        <c:lblAlgn val="ctr"/>
        <c:lblOffset val="100"/>
        <c:noMultiLvlLbl val="0"/>
      </c:catAx>
      <c:valAx>
        <c:axId val="30922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0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A61-1739-4792-94A7-2E777A83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E30-799D-47C0-9C62-0E6E8E45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477-B176-45BD-994F-FA4ACCEA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7E8-963F-4B39-BE53-2C33089E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87A-AC01-4615-8A86-B0F68FE8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69A-9655-4746-9D5F-3CC6623C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4E9-5021-4CF8-9875-D9108AC2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1E2-175D-4CBB-B007-4788C6DB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97A-AB41-45FB-A53E-59DD4DA5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255-C5B6-4096-AC60-E3C508D7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0F5-09DF-416C-B435-76C6AF1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785-D151-4536-8E09-7440EDD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3267C-16B6-40F9-9CE4-9BB909A061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