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22745"/>
        <c:axId val="17726493"/>
      </c:barChart>
      <c:catAx>
        <c:axId val="13222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26493"/>
        <c:crosses val="autoZero"/>
        <c:auto val="1"/>
        <c:lblAlgn val="ctr"/>
        <c:lblOffset val="100"/>
        <c:noMultiLvlLbl val="0"/>
      </c:catAx>
      <c:valAx>
        <c:axId val="17726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22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472-4634-4611-B4B2-1D88F477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8AD-CBEB-476F-BABD-BB90C1D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4E0-72E4-472D-9B86-F7224E70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64A-132A-443A-B45D-B9DDD9C4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05A-703B-44F6-A4C2-0BA1B11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FF3-E027-480C-ABAA-956CCC42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EAE-FFC1-486F-BF4A-8AFE665A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47C-9DBC-47FF-96B3-66D77B5F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D2E-3758-4EEF-9CC3-A8AEA0B2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11B-D2E2-427E-9636-7170938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F11-85DA-4631-AFB5-83D244B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518-9566-4EA4-8194-606CCFE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D1EFE-6BB4-4E8F-A379-9C3796C11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