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655553"/>
        <c:axId val="86277222"/>
      </c:barChart>
      <c:catAx>
        <c:axId val="996555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77222"/>
        <c:crosses val="autoZero"/>
        <c:auto val="1"/>
        <c:lblAlgn val="ctr"/>
        <c:lblOffset val="100"/>
        <c:noMultiLvlLbl val="0"/>
      </c:catAx>
      <c:valAx>
        <c:axId val="862772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555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1CD1-8BBE-42B1-B9B9-B1BA4255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CF9F-7765-4A94-ADE7-2B175B73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D919-B240-463C-B221-2D60024B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1D81-E63A-4103-8AF0-C1BC47AD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6B89-B4A4-43BA-8E10-5770C123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23C9-5E2F-498B-A2F1-4413DD7C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9331-4175-419F-97EC-8D888FCB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01E2-E878-404E-B511-71B2B2CF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0B54-DB29-4BC0-9CDC-94458805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878C-F038-4C8C-9A25-184E463B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D18E-66EE-46D6-B098-3AC74899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1722-1698-4D75-83D6-749E00D6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56164-7E39-481A-BA84-39AF985351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