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82246"/>
        <c:axId val="40890785"/>
      </c:barChart>
      <c:catAx>
        <c:axId val="93582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90785"/>
        <c:crosses val="autoZero"/>
        <c:auto val="1"/>
        <c:lblAlgn val="ctr"/>
        <c:lblOffset val="100"/>
        <c:noMultiLvlLbl val="0"/>
      </c:catAx>
      <c:valAx>
        <c:axId val="40890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82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18F-29BB-49C3-B97E-A1E1009E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5B2-1A01-4AE7-96FA-61C6B626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D6A-7BEE-4F97-9020-5C57FEFE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E9C-3FD8-4882-AFD6-1CA1C37A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F06-CB54-48BB-BE76-26F21CBB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4CA-7B0B-4509-B71B-15E2E790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95E-73B2-47AB-B85C-C7CCBAF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6381-00B7-436B-A7E9-3FBCF3B8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7E2-27AC-49F7-A563-286F35D9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9C4E-4182-4915-B7DB-1E56FBE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22E-CA90-4776-91B1-39BA4A3A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36E-D122-432A-9435-4AAE2C5E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CBBD8-C4F4-43EC-8826-B470BF2096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