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97944"/>
        <c:axId val="56560778"/>
      </c:barChart>
      <c:catAx>
        <c:axId val="35797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60778"/>
        <c:crosses val="autoZero"/>
        <c:auto val="1"/>
        <c:lblAlgn val="ctr"/>
        <c:lblOffset val="100"/>
        <c:noMultiLvlLbl val="0"/>
      </c:catAx>
      <c:valAx>
        <c:axId val="56560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97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5A3-85BB-46D0-B3C8-C61E0BF1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914-E8E0-4F86-A8C3-D8AFE3B4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6BC-5F57-415C-B803-A39C7179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AE2-24B0-4589-A2BE-14B220CB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A34-1CA8-46A1-97C9-3A0888E3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F62-3BB5-4862-B4FD-2385D74B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3888-9C93-427D-894D-C2E08EA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601-23BE-4BF1-B9C0-0114077C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8E5-4657-49D6-9263-DF3125F2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153-EB4D-4DA6-80D1-8BA720F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CF6-F585-4987-8264-0E3C0A78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4FD-F69D-41A4-BDBA-BC2B011F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FD2C5-0A0E-483B-822D-4A5EEF9C2D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