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10824"/>
        <c:axId val="97644649"/>
      </c:barChart>
      <c:catAx>
        <c:axId val="20310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44649"/>
        <c:crosses val="autoZero"/>
        <c:auto val="1"/>
        <c:lblAlgn val="ctr"/>
        <c:lblOffset val="100"/>
        <c:noMultiLvlLbl val="0"/>
      </c:catAx>
      <c:valAx>
        <c:axId val="97644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10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463-CA3F-4944-822A-63193D00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8F2-28F8-47C4-9FD9-77BD3559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3DC-0CF2-4AB4-A9BD-370EF1C1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B6A-D494-47E7-87B3-DF52FF1C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62A-0C6B-47DA-943F-7DC3204B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67C-DBE7-4347-AD7B-3FCA085E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ABA-823C-40BE-B789-C6214C3E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212-B6CA-460E-B696-0707A899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80B-8065-49D3-814F-E132F87E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A2F-A0E2-4855-B34A-51BEB6C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62A-DA04-45FE-8A67-0A820957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D3E-A59B-4538-B685-1185A779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DBC2B-D6B2-492D-B3E1-E23B66FE17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