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01600"/>
        <c:axId val="69563758"/>
      </c:barChart>
      <c:catAx>
        <c:axId val="37101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63758"/>
        <c:crosses val="autoZero"/>
        <c:auto val="1"/>
        <c:lblAlgn val="ctr"/>
        <c:lblOffset val="100"/>
        <c:noMultiLvlLbl val="0"/>
      </c:catAx>
      <c:valAx>
        <c:axId val="69563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01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270B-0EBF-4A97-A75E-73A51B49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4F4-BE52-434C-8671-D69238CC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9D6-7225-49BC-8A92-84E51D68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320-2E8A-4EC7-84FA-C37A7E2C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346-00C7-41C1-9C2B-E5EED1ED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78BF-FA0E-4012-8281-4B4AF653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754B-ADEA-4621-919E-E52C7723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FAB-4EAA-4004-A4DD-27A754D5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93F-9491-42DD-85A1-33AE86C5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148-22EC-4FAD-8316-6780D109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A6C-5BFF-4BAA-BA77-19DB84FD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917-128F-445A-B939-593EFF76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DA1F0-C32B-461C-921C-B740F31D99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