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51553"/>
        <c:axId val="50547819"/>
      </c:barChart>
      <c:catAx>
        <c:axId val="73751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47819"/>
        <c:crosses val="autoZero"/>
        <c:auto val="1"/>
        <c:lblAlgn val="ctr"/>
        <c:lblOffset val="100"/>
        <c:noMultiLvlLbl val="0"/>
      </c:catAx>
      <c:valAx>
        <c:axId val="50547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51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66E-9CB0-411B-90F8-39CA6517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D92-0EFA-4C10-B3E6-DA1476F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1BA-F3D2-4133-BF1C-A3F619CC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C97-B1A2-4808-8722-B7A1AD04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D10-1F46-4D83-811A-03B35F22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00B-630C-4D0D-B0B9-F003978A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28F-CAC6-4991-BEB4-DA2BD9B5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A5C-3072-43CE-9684-9F457921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B82-B6AB-41D2-80C1-DE0C74C5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651-1985-4898-BB36-88960A2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72C-2831-46B6-937C-7836C73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701-C1D5-46B6-B2AF-09D0E659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4E770-1925-479E-8393-8B378DEBF6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