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03995"/>
        <c:axId val="65623598"/>
      </c:barChart>
      <c:catAx>
        <c:axId val="13903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23598"/>
        <c:crosses val="autoZero"/>
        <c:auto val="1"/>
        <c:lblAlgn val="ctr"/>
        <c:lblOffset val="100"/>
        <c:noMultiLvlLbl val="0"/>
      </c:catAx>
      <c:valAx>
        <c:axId val="65623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3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1A2-EAF0-4688-BCDF-0ACC4F1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6FC-78ED-4C0A-BD1E-2E0FAAE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6A7-FD3C-463D-91C7-9CAECAB7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92A-B1F1-4680-91E0-FB0EE551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7DE-0BE4-47CD-8DEF-DD2EB8B9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E35-49CE-4FE7-8A2B-1B6BE4E2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17A-3EC1-42E9-BC5E-69BC12E7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D80-163B-4B9D-835F-650F8587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1A2-20AF-493E-97C1-77C9A3C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A72-0BC2-4107-B969-8379234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97A-412E-48A5-A0B7-051F1BF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A65-A9AC-4224-A966-D7064F1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580A4-46A0-4650-B6A1-82670AFF2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