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8988"/>
        <c:axId val="62599559"/>
      </c:barChart>
      <c:catAx>
        <c:axId val="6338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99559"/>
        <c:crosses val="autoZero"/>
        <c:auto val="1"/>
        <c:lblAlgn val="ctr"/>
        <c:lblOffset val="100"/>
        <c:noMultiLvlLbl val="0"/>
      </c:catAx>
      <c:valAx>
        <c:axId val="62599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8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AF3-8223-4A4C-9BD2-F35F7342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CEF-8A2F-4222-8C5F-2D223EDC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BD6-A5AF-46BD-A237-402F1578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1F3-87B1-4E61-B166-429733A8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69E-99A4-4DA8-AD4C-5AA78D0A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782-F7B6-44A3-AE3E-D8420B0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641-0E04-49F5-91EE-8751222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3D6-0D61-492E-8D0D-A9D6E804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2BA-DD39-4416-BD0A-2D2B930A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7A8-8401-4C29-910E-A4BFEAA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C57-8542-491A-BFC6-906BCE4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578-23DF-40D8-A93A-9086BB68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EA6C7-8560-4014-91F8-EF4CC5BE72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