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13071"/>
        <c:axId val="96841310"/>
      </c:barChart>
      <c:catAx>
        <c:axId val="64313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41310"/>
        <c:crosses val="autoZero"/>
        <c:auto val="1"/>
        <c:lblAlgn val="ctr"/>
        <c:lblOffset val="100"/>
        <c:noMultiLvlLbl val="0"/>
      </c:catAx>
      <c:valAx>
        <c:axId val="96841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13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B35-E121-4B56-83F9-0FAD5A81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031-C4EB-4E0D-96BB-D1C67553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738-F08A-4803-9B03-4E934F44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0B0-E45E-4B1E-BCBD-3C213F25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C9D-46F8-4E50-B55B-96E634BC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E67-0A0B-4C6E-B929-81B26521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22F-12EF-4D6C-BDCD-E4A716FF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212-0039-444D-8B76-5B5F6FA1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C2D-C859-4F97-A1A3-B6C21469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69C-D934-4B86-A804-8A33CD94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6D7-5FCE-49F1-84B1-06AE6C6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465-427C-48E4-90CB-9E173AA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C2206-C1D9-4CA8-83EE-EDAF9659D7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