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380262"/>
        <c:axId val="79290996"/>
      </c:barChart>
      <c:catAx>
        <c:axId val="793802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290996"/>
        <c:crosses val="autoZero"/>
        <c:auto val="1"/>
        <c:lblAlgn val="ctr"/>
        <c:lblOffset val="100"/>
        <c:noMultiLvlLbl val="0"/>
      </c:catAx>
      <c:valAx>
        <c:axId val="792909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3802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E2CB-3BB2-4D1B-B6A2-6622994CD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9485-2254-44EA-B0F3-63FC4CE7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A6D5-4319-4641-ADE6-92D57BFEA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6246-6BEB-49BB-8F75-8ECADF580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F588-E3C3-41C9-8AAA-B3335C16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F2CB-6E07-49CE-923C-38A0E13D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5CDC-023E-43A0-89C7-F11FAB57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4FA3-EF01-43C2-B1CE-2AFE2B39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363B-7038-418E-AA10-9E82BA82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FCEB-71F1-4380-A348-EFC463E6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9DC6-0569-4F8D-B1F0-6456F9EE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C8FB-00A1-4822-B62A-E40E53D0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0215F8-1380-4520-A889-99C73C6C4A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