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01158"/>
        <c:axId val="38578852"/>
      </c:barChart>
      <c:catAx>
        <c:axId val="52801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78852"/>
        <c:crosses val="autoZero"/>
        <c:auto val="1"/>
        <c:lblAlgn val="ctr"/>
        <c:lblOffset val="100"/>
        <c:noMultiLvlLbl val="0"/>
      </c:catAx>
      <c:valAx>
        <c:axId val="38578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01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B16-C796-4A9E-9655-79C62727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43B-8D0B-4E2D-8598-398EBD7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5CE-1DC2-4E0C-B8BB-8183204C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E8D-987B-4836-9462-0F4032E7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2E1-AF98-4A3A-A3C2-033A254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8B5-0424-4BFE-AB99-3579B054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6A6-D18E-4BCA-A9EF-B05720E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82D-0219-422C-9AE5-A14D0DCB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1CD-3939-49BE-B86A-BD175916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9BD-819B-4DA5-B1D5-6060EDC9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818-1EFE-4A6C-996F-56E84B9E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704-8C79-45DF-AC02-2162AC1A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60AC1-5E36-45CF-B033-3E5BD19483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