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54800"/>
        <c:axId val="80876446"/>
      </c:barChart>
      <c:catAx>
        <c:axId val="37854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76446"/>
        <c:crosses val="autoZero"/>
        <c:auto val="1"/>
        <c:lblAlgn val="ctr"/>
        <c:lblOffset val="100"/>
        <c:noMultiLvlLbl val="0"/>
      </c:catAx>
      <c:valAx>
        <c:axId val="80876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54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F939-ACB5-4C17-B02B-D90F6832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FBA7-2E02-4CEC-86F5-39A2927D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1DCC-A15A-49F7-9265-1CDC299D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6C4-F2C2-4005-9E6B-50D220F4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DA21-6448-4876-A53F-67FEDE4B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48D0-427A-4412-B1B7-E0435678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B307-5173-466E-A02E-14DF4469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D5F-DE06-4A78-86A1-D1A1B6CE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968-9792-4D0A-B39B-35B8646E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A1F4-B5CA-4BD2-BAE0-6AD2AAAA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365-58F7-4D02-836C-FD727A68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319-F2D5-440B-A688-54746656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DE74B-AFAC-4EC7-A4DB-CC91A5E044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