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664688"/>
        <c:axId val="66588690"/>
      </c:barChart>
      <c:catAx>
        <c:axId val="386646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88690"/>
        <c:crosses val="autoZero"/>
        <c:auto val="1"/>
        <c:lblAlgn val="ctr"/>
        <c:lblOffset val="100"/>
        <c:noMultiLvlLbl val="0"/>
      </c:catAx>
      <c:valAx>
        <c:axId val="66588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646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15B-6FB5-4B46-A7E0-6F92F722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DEB-E94F-4580-B159-5DA0BAE8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D34-8285-450C-900F-B8F73EC5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B33-79C1-476C-AF50-DC4F61E5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CB3-960C-4C02-8D6F-6F6D57E5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7D1-2DCC-47D6-8501-B9ACD9D8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44E-C2E7-43C2-83AA-6D5BB0E5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89E-D394-4C80-B3F7-C1E7F3E5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081-F695-439F-941F-837CBAA1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C61-9E0C-4F7D-86FC-6120ED67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DFA-3AED-4493-979C-4E197038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3322-C804-4F29-B448-B94C1B06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18F4F-1D79-43C5-ABEF-5DC007815C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