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12609"/>
        <c:axId val="21862518"/>
      </c:barChart>
      <c:catAx>
        <c:axId val="91412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62518"/>
        <c:crosses val="autoZero"/>
        <c:auto val="1"/>
        <c:lblAlgn val="ctr"/>
        <c:lblOffset val="100"/>
        <c:noMultiLvlLbl val="0"/>
      </c:catAx>
      <c:valAx>
        <c:axId val="21862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12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52B-3C3C-4321-B03E-19654412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F66-F844-40D4-B361-4A02775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C4C-FD53-4617-9335-E957B682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4C3-9F60-41FC-9E52-530222ED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0EA-CB10-4773-B8D5-F0477CB6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C34-7788-4AB9-9A3F-CE8B1F6E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5D6-1B58-4D06-B393-DD67F588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81B-FFBE-4E0E-89A0-2628DC5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F1D-12D3-4320-832E-B0088B1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B50-13CB-4C4A-AD98-9F9C3C4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538-2211-4314-AE03-EFAC741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A58-681E-4B5A-8A9D-F72C2E6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CF9D2-F0A7-4BFF-ACD3-456B53E03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