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19803"/>
        <c:axId val="70917375"/>
      </c:barChart>
      <c:catAx>
        <c:axId val="54019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17375"/>
        <c:crosses val="autoZero"/>
        <c:auto val="1"/>
        <c:lblAlgn val="ctr"/>
        <c:lblOffset val="100"/>
        <c:noMultiLvlLbl val="0"/>
      </c:catAx>
      <c:valAx>
        <c:axId val="70917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19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D1C-73FA-43A4-AFF4-78D60196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7EF-5651-4919-96DA-A95B78C4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FF3-29FA-476A-9094-C4D0E839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CC0-90EF-4274-9EEB-50DDEF3E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CD7-88F8-402D-B207-B9A06F66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490-C01F-4B63-9B2B-DDEE2A3A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B21-836C-43CC-979A-2A955C25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39F-7BD8-4F12-9C7D-4B91BABB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117-6304-45C3-BA4C-F428B5FA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ECFF-044E-49C8-A6A9-416D4829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82B-31E5-453D-B037-7D5CF368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49E-E924-4C88-940E-42EEB224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60160-D68A-4476-B507-BC17BF9B82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