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692412"/>
        <c:axId val="32652522"/>
      </c:barChart>
      <c:catAx>
        <c:axId val="476924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52522"/>
        <c:crosses val="autoZero"/>
        <c:auto val="1"/>
        <c:lblAlgn val="ctr"/>
        <c:lblOffset val="100"/>
        <c:noMultiLvlLbl val="0"/>
      </c:catAx>
      <c:valAx>
        <c:axId val="32652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924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7D5-AE85-4AA2-8B98-1231058D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3A4-8E6F-40C5-8513-A9504D25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672-A39F-4528-B1BB-BA953D7E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08B-562B-4901-9BAC-6FEC2036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A78-4CFB-4F82-95A5-122C86BF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098-E4F3-4290-A95C-C00800FD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7D39-98CA-4ABD-94A6-228AE38B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122-BA28-4104-B83B-C920D7DF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AAAD-4A6A-4079-90AA-AD712BD6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85A-416E-48A4-ACE9-A99F797B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4521-CB2C-4675-8404-B8BA64F1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F61B-01DA-4694-A5E1-3A22A0A1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1C817-E17D-496F-8DFB-E40D2A728A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