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2526"/>
        <c:axId val="71110453"/>
      </c:barChart>
      <c:catAx>
        <c:axId val="2442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10453"/>
        <c:crosses val="autoZero"/>
        <c:auto val="1"/>
        <c:lblAlgn val="ctr"/>
        <c:lblOffset val="100"/>
        <c:noMultiLvlLbl val="0"/>
      </c:catAx>
      <c:valAx>
        <c:axId val="71110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2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438-4090-4BEE-8968-DF8652CD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6F8-0B30-4E30-BB72-6A64257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1FA-EAC8-4FDE-BEB4-6E2E6DC2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D0C-0AD1-4B94-9955-416EB59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737-48DE-4EE8-9E51-037F32C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13A-C7C9-4B34-AF0C-B6665A7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0B0-1764-4DE8-88D8-6C14D935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A3A-900B-48D3-AED0-F5A7606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4CB-D98B-4910-8D09-BD51AFB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588-500A-4925-85AB-442A891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C3D-EB14-48E4-8B47-D95ED9B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A32-956C-4E36-853C-8B06211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EEE05-A667-42D2-90E8-3D9568A6EF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