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62753"/>
        <c:axId val="83323044"/>
      </c:barChart>
      <c:catAx>
        <c:axId val="25627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323044"/>
        <c:crosses val="autoZero"/>
        <c:auto val="1"/>
        <c:lblAlgn val="ctr"/>
        <c:lblOffset val="100"/>
        <c:noMultiLvlLbl val="0"/>
      </c:catAx>
      <c:valAx>
        <c:axId val="833230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627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4087-6B3D-49BE-B367-5970E6CEC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DDD6-56D0-41B3-83A8-2EA56346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F806-DC75-4B48-A1B9-5709BFD1C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1FD6-0759-4342-B510-60B77B0CD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E1F2-6F0A-4026-AAD3-B0D6767A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BDE6-2329-40C0-BAB1-F6958552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FA8C-4A5C-433F-9F87-9A5D0434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5C7B-E3DC-4AF1-A46A-6D8389B9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7781-DFCD-4A92-85C6-4049EF1C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EB3A-3CB5-411A-8174-F3022E42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3943-3F9F-4951-951B-48DCA3D8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114A-2C7C-4427-9E5E-1985DD27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9166E7-3D32-4F8E-A377-739CF691FD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