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719790"/>
        <c:axId val="71091677"/>
      </c:barChart>
      <c:catAx>
        <c:axId val="437197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091677"/>
        <c:crosses val="autoZero"/>
        <c:auto val="1"/>
        <c:lblAlgn val="ctr"/>
        <c:lblOffset val="100"/>
        <c:noMultiLvlLbl val="0"/>
      </c:catAx>
      <c:valAx>
        <c:axId val="710916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7197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67CB-0C41-4A63-97E1-DB97E361D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A835-6A11-4A54-9A63-CC195AE2D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214A-74A7-4645-822F-0E212B2AC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2BD2-1DEF-4902-978A-980A1290D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5C86-296E-44D2-87C9-99C922FA0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CBA3-6EF9-40D0-9106-2DFF8799E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51DE-93EF-47D6-B064-3E006B001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8E85-593C-40B9-8E93-661668464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52E2-56C2-4E40-B364-9A16EF5AC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72B0-1C92-4CE9-A3F4-5B3EBCB0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C8A0-8A69-4FB2-BF7A-990B9054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E356-7B14-44CD-BA50-DAF2368A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A8089C-21EC-4A20-97F8-442DDA89E13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