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21633"/>
        <c:axId val="32284119"/>
      </c:barChart>
      <c:catAx>
        <c:axId val="24521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84119"/>
        <c:crosses val="autoZero"/>
        <c:auto val="1"/>
        <c:lblAlgn val="ctr"/>
        <c:lblOffset val="100"/>
        <c:noMultiLvlLbl val="0"/>
      </c:catAx>
      <c:valAx>
        <c:axId val="32284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21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1F1-23FB-4312-8650-265DCD7F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0ED6-B863-4E0B-AB01-00C8BD8B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AB8-51F8-4537-8E2B-2D7F4938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52B-D7C9-4DED-8019-C3F98304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EF6-DE20-4775-AD45-6FA4158B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300-3001-4C9A-B0A2-61EEB80D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0FC-2E27-43BE-A055-AF457CDB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533-E1E2-47CF-9F4A-EAF050E1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480-6834-4AFA-AC96-B5674C18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33C1-DB3C-4FFD-8590-23A6DB8D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D75-511B-4DE4-9538-76EC129F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CB6-B215-4340-A460-044D42C6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9B20E-7ACB-4F53-8C91-CC7D65AE43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