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0056"/>
        <c:axId val="27830554"/>
      </c:barChart>
      <c:catAx>
        <c:axId val="72900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30554"/>
        <c:crosses val="autoZero"/>
        <c:auto val="1"/>
        <c:lblAlgn val="ctr"/>
        <c:lblOffset val="100"/>
        <c:noMultiLvlLbl val="0"/>
      </c:catAx>
      <c:valAx>
        <c:axId val="27830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0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FEC-86BC-4E31-BA54-FF5897D3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E3C-25EE-40A0-9B40-396CFF3B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775-C025-486A-9D9E-97B3B428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EBB-8D63-4C19-A173-FC1F4604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D1F-14E5-47F1-9E07-8311835A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111-3F2C-4F01-9A2D-4FCBDF3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9B6-17C9-44F3-85E8-BFA930C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C74-F3C9-43C2-9D1C-668517DB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4C3-465F-4EB3-9489-D1C1675B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BBF-235F-43E5-8DDD-7B048AB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3BA-545A-4DC6-891C-C19DD2B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9FA-BF7B-4105-A73B-6619BCF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CD4EB-FBC5-4E52-995E-753259B671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