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84107"/>
        <c:axId val="11417393"/>
      </c:barChart>
      <c:catAx>
        <c:axId val="79584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17393"/>
        <c:crosses val="autoZero"/>
        <c:auto val="1"/>
        <c:lblAlgn val="ctr"/>
        <c:lblOffset val="100"/>
        <c:noMultiLvlLbl val="0"/>
      </c:catAx>
      <c:valAx>
        <c:axId val="11417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84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D4F-6881-4BF3-B4CB-F5C48984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4CD-27B1-4412-A71E-E045675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F5D-B863-44D6-A701-7A05F465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49B-BAA6-4B78-A25F-1E26C842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218-FB6B-4460-8E0A-3D22648B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D4C-DAD1-4FE5-B73E-85D01CB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C2A-56E4-4DAB-BD0F-3AD19230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879-147B-4BE2-97C2-42A929D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224-18FF-4BAA-BD57-8696D101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50B-5AF0-4D41-8024-EFEC62C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898-D5F3-459E-AF96-0A7F722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EFB-1C8F-4DCB-BAD8-1D2E7A6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ACA4A-63E6-4724-B7DB-88DCF4510D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