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02509"/>
        <c:axId val="23056966"/>
      </c:barChart>
      <c:catAx>
        <c:axId val="227025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56966"/>
        <c:crosses val="autoZero"/>
        <c:auto val="1"/>
        <c:lblAlgn val="ctr"/>
        <c:lblOffset val="100"/>
        <c:noMultiLvlLbl val="0"/>
      </c:catAx>
      <c:valAx>
        <c:axId val="23056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025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588-D24A-4065-9CF4-B4BD3AA0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6E3-F975-4BFE-B78C-42E7064B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F0F9-C859-4F95-BBC6-4C5D9F0C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472-B993-4899-A623-9F872DF3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74D-420E-454C-A7AD-26364468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0CBB-E274-41D2-B47B-B271DE6E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B0F4-7C09-4E5A-8231-6E996BEE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7C8-5AE6-4497-8E08-844032CC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33A-034D-4412-90EB-7658DADE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9D0D-0997-4C71-ABB9-BBE77B9F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DCC-FCB7-48FE-969E-4B58C9F1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3C9-81FE-4879-A15B-635589F1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0542D-EADC-45B0-A980-D796C13364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