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37166"/>
        <c:axId val="9936966"/>
      </c:barChart>
      <c:catAx>
        <c:axId val="98637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6966"/>
        <c:crosses val="autoZero"/>
        <c:auto val="1"/>
        <c:lblAlgn val="ctr"/>
        <c:lblOffset val="100"/>
        <c:noMultiLvlLbl val="0"/>
      </c:catAx>
      <c:valAx>
        <c:axId val="9936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37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AD2-51D1-4076-AAD1-27CC6CD8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408-41E5-4293-9B1E-ACC2E24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3C9-4C29-4679-9478-1D852579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9B9-47DD-46DD-9A0E-86A224DE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268-1166-43A5-9A17-AE2E7A1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398-91B1-42FE-BDCE-E0FD3A7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C65-7C7C-4CF6-BFAF-853201C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53C-85CB-4191-AE20-C8F63A9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D09-6B5C-42E7-9097-0EA69924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955-D74A-46CE-9B3C-B10238A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903-5D62-4C20-B7BC-50B1C01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2D6-0CC3-4AA6-87F2-59FB194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4662E-6B3C-495B-AEE6-3CE229D55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