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37719"/>
        <c:axId val="61218854"/>
      </c:barChart>
      <c:catAx>
        <c:axId val="915377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18854"/>
        <c:crosses val="autoZero"/>
        <c:auto val="1"/>
        <c:lblAlgn val="ctr"/>
        <c:lblOffset val="100"/>
        <c:noMultiLvlLbl val="0"/>
      </c:catAx>
      <c:valAx>
        <c:axId val="612188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377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C417-BA29-44F0-9504-D8158C67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01B5-1204-4F71-B17D-A742B15B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003E-5F5C-4DBA-B3FF-59C2C33C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7808-1A7C-43EA-82A2-BC541481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0FF1-0FD3-4A94-8DA5-FFBAFE4C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1DE9-93C0-4632-A38B-738C75F7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50B7-43B4-4B60-86DB-50BACAAC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1B8-FC07-4019-9D75-6A105B5D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811D-AA25-4953-BF46-A494F3A8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1F91-5FA9-454D-ACA8-6D824086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0952-24B9-4371-90A7-08C40518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858D-559F-4535-9CFC-D83615FA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7AF83-40E8-4E9A-9B29-3186BB9A00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