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075149"/>
        <c:axId val="8001211"/>
      </c:barChart>
      <c:catAx>
        <c:axId val="140751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1211"/>
        <c:crosses val="autoZero"/>
        <c:auto val="1"/>
        <c:lblAlgn val="ctr"/>
        <c:lblOffset val="100"/>
        <c:noMultiLvlLbl val="0"/>
      </c:catAx>
      <c:valAx>
        <c:axId val="80012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751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B51B-A4D7-416C-A242-8E47EF1D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3927-CE2B-4972-BD76-4C3B2919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8AFF-97D1-49CB-A0C3-E50D8778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FCE5-7B93-41A0-8235-4EA40650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2A14-2823-4F0D-B128-BF57BF4C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FB7D-8B42-4E6D-A5F4-0B1B0E52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98CE-B660-4444-90B8-C10DB7BC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302F-DF43-419F-95C0-012C1B38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6F05-74EC-4619-8A5A-74FBC3AB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246B-FB26-4358-9A2E-57B51148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46E6-CC8D-44EA-ACB2-22AD8D8F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7943-3426-41D6-8296-23FEBBF0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4CF1D-D178-41E1-95B3-15DB927410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