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261192"/>
        <c:axId val="37937415"/>
      </c:barChart>
      <c:catAx>
        <c:axId val="462611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37415"/>
        <c:crosses val="autoZero"/>
        <c:auto val="1"/>
        <c:lblAlgn val="ctr"/>
        <c:lblOffset val="100"/>
        <c:noMultiLvlLbl val="0"/>
      </c:catAx>
      <c:valAx>
        <c:axId val="379374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611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78FB-FBA6-4307-84D0-33A84354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1A58-0B8B-45D0-9641-39470536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F995-1D9F-49F8-BB0F-7CD53417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0E09-C8E8-4258-B393-C66AB7EAC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AD37-0D66-4B45-877B-F3AF757D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D1D8-5F6C-4001-8CA1-2A2B3BE7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916A-3E8A-4BFA-ABC2-51B3C71B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74FB-9AFF-4A96-997C-0B9D1B80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293D-201F-4DDE-B507-E0894A3B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A38B-C517-4090-8F62-4CD82A09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3B71-2A8E-492C-95B8-D2C3FA5B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4483-0195-4127-9EDC-DF625CFE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83238-A36C-483E-AB0E-EDAA2ACD19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