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05375"/>
        <c:axId val="87322950"/>
      </c:barChart>
      <c:catAx>
        <c:axId val="94305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22950"/>
        <c:crosses val="autoZero"/>
        <c:auto val="1"/>
        <c:lblAlgn val="ctr"/>
        <c:lblOffset val="100"/>
        <c:noMultiLvlLbl val="0"/>
      </c:catAx>
      <c:valAx>
        <c:axId val="87322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05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947-0544-4477-B23A-33786D19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560-E327-4827-8E32-584F79CB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0073-6AC3-4B2F-B973-6A268823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30D-1465-40AE-9527-77347A9A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E83-04CC-4A27-981F-F57FC5E1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E87-4D55-417B-8E2F-47E0AF32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481-DCE0-4C16-9C13-2DE51FA1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152-AF28-43EA-BE72-6FB11D5C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F4B-B951-4BF4-80D7-70AF8282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E36-B503-4BB1-A1D3-EBC78C6A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85B-58C1-43F3-AC9A-3C5768F5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567-A16C-4E75-8F62-563E2DC6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E5978-1897-4B8C-B733-4572189963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