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92516"/>
        <c:axId val="34327130"/>
      </c:barChart>
      <c:catAx>
        <c:axId val="49492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27130"/>
        <c:crosses val="autoZero"/>
        <c:auto val="1"/>
        <c:lblAlgn val="ctr"/>
        <c:lblOffset val="100"/>
        <c:noMultiLvlLbl val="0"/>
      </c:catAx>
      <c:valAx>
        <c:axId val="343271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92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F62-3857-41E1-9CC5-76E23B16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816E-F287-439D-89AB-D903437D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E1B7-62D2-4A11-8B10-98C84D00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34A-CC14-4369-8F9D-4A599C1B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9D5-0B91-4C70-856E-13E9BC72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B09-54AA-475F-A459-5F02105E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3830-E456-40C4-8C96-3B247931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0C5C-4804-45F2-BBCE-F5702344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0FC-FE57-445A-9FB4-D5799008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1B2-B73C-43D9-B946-D4BC7468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656-38AE-432E-A146-245BAAF1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1A0-6242-44EA-827B-3FF482E2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59D83-ED7A-4C6A-B45B-74C1FCA2B9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