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113913"/>
        <c:axId val="66161448"/>
      </c:barChart>
      <c:catAx>
        <c:axId val="991139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161448"/>
        <c:crosses val="autoZero"/>
        <c:auto val="1"/>
        <c:lblAlgn val="ctr"/>
        <c:lblOffset val="100"/>
        <c:noMultiLvlLbl val="0"/>
      </c:catAx>
      <c:valAx>
        <c:axId val="661614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1139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82C5-4248-4EAA-A0B3-5B3041DE4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C7F4-DF86-47A3-91B0-27EFA890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54CF-B12B-462C-A281-C32246BBC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7507-6CFE-47FA-9E1B-8F865DB92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B0FA-0D77-44D8-85AD-91942C78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EFDB-E46E-441B-83CF-8EDF56E8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4886-01B3-4841-839B-B8F0C692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C8F7-2CE6-4CF5-86F8-B0CD231C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72E0-CC5F-4094-BBEA-04D800A4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02D5-19BD-46F7-B4E4-0618C6DD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0D35-5390-491F-9D00-11ED5AB2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1501-AEBF-4135-B9B2-8E1C98F6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B17B80-D016-4F60-B72F-F59FFC27AE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