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19161"/>
        <c:axId val="69550678"/>
      </c:barChart>
      <c:catAx>
        <c:axId val="15619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50678"/>
        <c:crosses val="autoZero"/>
        <c:auto val="1"/>
        <c:lblAlgn val="ctr"/>
        <c:lblOffset val="100"/>
        <c:noMultiLvlLbl val="0"/>
      </c:catAx>
      <c:valAx>
        <c:axId val="69550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19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B34-FF7A-41C8-B10A-D88E056B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EBE-57AC-404A-AB12-53A25090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4D7-625F-446F-8B57-22CA3380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35D-0F92-4483-80B2-89CCF595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7F5-D85B-46BB-9B08-C7FC9215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E94-A446-4B8B-A0BB-13DFE1A6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5DD-A45D-4748-8E4B-F2D5B512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3BC-FB76-4FB0-BE3E-3B13E235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3C7-1765-4F13-91C0-BF47404B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FC6-AEBD-40B0-804E-F9EE0850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4EA-1E33-4A9E-BE1B-013BB9B6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B65-F51E-403F-A957-0FF0758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B02CE-C435-4001-9F94-A6122DC53F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