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974977"/>
        <c:axId val="30994394"/>
      </c:barChart>
      <c:catAx>
        <c:axId val="219749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94394"/>
        <c:crosses val="autoZero"/>
        <c:auto val="1"/>
        <c:lblAlgn val="ctr"/>
        <c:lblOffset val="100"/>
        <c:noMultiLvlLbl val="0"/>
      </c:catAx>
      <c:valAx>
        <c:axId val="309943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749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ADD2-BF53-43F0-93E5-66806B52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99A2-5158-4224-A9F4-A3F336D3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949E-CD49-4DE9-BA9D-208726509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574F-7467-47FD-A16A-366550B2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03DE-F57B-4BB3-AA75-E1E56C12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AA1F-19AA-4BA6-B1F4-0A6F5D67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D634-A708-4E6D-8620-3411C352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B846-5E52-4F0B-BE26-CEAF7BEB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5CC5-A065-4825-818D-7504DC47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F3B1-D7E6-473F-A47C-246DCC17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7D6B-289E-4E0C-82D4-C81C5811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7AF2-D304-4554-9B2F-94E4B593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F9A79-3251-481C-9607-99903B867C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