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63122"/>
        <c:axId val="42183843"/>
      </c:barChart>
      <c:catAx>
        <c:axId val="54163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83843"/>
        <c:crosses val="autoZero"/>
        <c:auto val="1"/>
        <c:lblAlgn val="ctr"/>
        <c:lblOffset val="100"/>
        <c:noMultiLvlLbl val="0"/>
      </c:catAx>
      <c:valAx>
        <c:axId val="42183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63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986-406A-489C-8DC1-718CA274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03A-B39D-48DB-82E5-2109AF7D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844-1CBF-4A42-8A90-6B9C7D1B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331-7B9A-4AA7-BE9F-700CBF9B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D30-0B40-4662-A527-DDCBE3DB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D78-C376-421C-92A8-B19B14E0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0E9-4DE6-4A35-A782-84A7EA67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408-49CD-4CB7-81FC-2054546D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4F9-F026-4192-865E-A4481231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837-0FBF-49A5-B577-3BC4888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469-F11E-494E-AB3B-092A3DB9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FB9-DC3C-486A-AD4A-E072B792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15D9B-466D-45BF-9516-DC1095AB0B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