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994351"/>
        <c:axId val="10268700"/>
      </c:barChart>
      <c:catAx>
        <c:axId val="519943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68700"/>
        <c:crosses val="autoZero"/>
        <c:auto val="1"/>
        <c:lblAlgn val="ctr"/>
        <c:lblOffset val="100"/>
        <c:noMultiLvlLbl val="0"/>
      </c:catAx>
      <c:valAx>
        <c:axId val="102687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9943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9CC9-3897-45E1-ADB3-A38A97AD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5AC9-4F60-4B4A-A480-DCF961F2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F9C9-8A5E-48E1-AB8D-63C269DB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F305-B360-4C79-A713-46CAC1F09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F2F9-3228-4D50-9611-850CA99B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F068-FDB1-4869-84EA-FD8058D0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5605-A44F-4CE0-BC18-0A78B9B5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EACA-0068-431C-921F-76CA609D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56F8-3FFF-4CFE-928E-77530288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F8DF-3D5C-4155-BAE1-36358CB1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C9B4-3335-40CD-86FD-88B58189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D2DD-1769-4DC6-AB5B-6EC2AD68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BA7A1-5A47-404E-BDDA-F5A271B1F0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