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96923"/>
        <c:axId val="74583302"/>
      </c:barChart>
      <c:catAx>
        <c:axId val="13796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3302"/>
        <c:crosses val="autoZero"/>
        <c:auto val="1"/>
        <c:lblAlgn val="ctr"/>
        <c:lblOffset val="100"/>
        <c:noMultiLvlLbl val="0"/>
      </c:catAx>
      <c:valAx>
        <c:axId val="74583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6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EE0-5480-4F81-9FAF-BDB45A5C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55C-585B-4888-B692-74F9872C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262-98E8-48F9-A445-C725A525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868-3F33-4642-B00B-DDC24728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780-B04A-4710-9593-AB0396C7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DE7-108E-4B56-B96A-06EA56B3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2E4-8607-4DB9-8433-63AC26A4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97D-4925-404C-96A5-C1459618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A94-C526-4250-9B39-48A80E12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5C1-9256-4C34-991C-9D63232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A2D-B42B-4CC8-B3E6-0A4D74ED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5DA-3D90-484E-A6A2-92693B8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3EC24-B574-4DBD-AD6F-9597B3818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