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72421"/>
        <c:axId val="49284674"/>
      </c:barChart>
      <c:catAx>
        <c:axId val="10372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4674"/>
        <c:crosses val="autoZero"/>
        <c:auto val="1"/>
        <c:lblAlgn val="ctr"/>
        <c:lblOffset val="100"/>
        <c:noMultiLvlLbl val="0"/>
      </c:catAx>
      <c:valAx>
        <c:axId val="49284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72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BD0-C4C8-4072-A5B6-BD8DA38C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50A-DC55-4DB8-AB1A-4DE4898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A40-F36F-4AB7-A183-ACC22536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C70-DC7F-4B3C-B7B9-E45C5C9E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D92-B956-4174-A758-21D883D7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ABC-A5F5-42AE-A42F-010FECD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2CD-45C3-4DD8-8C98-DCC2AA5B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862-1849-4438-8F25-63915218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D7D-3DCC-486C-ABEC-BAD81764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1F0-8328-4946-B410-02BD032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511-88ED-4632-B403-5516EB5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369-30BB-4D7A-81F1-F77C79E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8FA06-C653-45FE-9FB6-0248258CB1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