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230312"/>
        <c:axId val="8592264"/>
      </c:barChart>
      <c:catAx>
        <c:axId val="882303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92264"/>
        <c:crosses val="autoZero"/>
        <c:auto val="1"/>
        <c:lblAlgn val="ctr"/>
        <c:lblOffset val="100"/>
        <c:noMultiLvlLbl val="0"/>
      </c:catAx>
      <c:valAx>
        <c:axId val="85922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2303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FCDA-B890-48EE-A4BB-8F3B38A53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B35F-84A0-4596-B747-03E4570A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43CE-E966-4215-B57B-42B8E64B9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5323-A113-4109-810E-5543DC439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0A4D-C8F9-4E04-82F4-DD8DBE9E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1821-DFFF-4AAA-AB41-14043627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ACBC-37A9-477D-9930-78EBA089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0575-C288-442E-95AF-002B3642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D482-1D01-4FF8-962C-FFBACD57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D41B-29FA-44EC-8F04-0E6C4A76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BEF8-74C5-4E9F-94DC-69E53E9B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D261-3948-4372-8B0E-8A1E50E0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B9780F-090E-43B5-881B-0D754256AA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