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52330"/>
        <c:axId val="41045195"/>
      </c:barChart>
      <c:catAx>
        <c:axId val="94752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45195"/>
        <c:crosses val="autoZero"/>
        <c:auto val="1"/>
        <c:lblAlgn val="ctr"/>
        <c:lblOffset val="100"/>
        <c:noMultiLvlLbl val="0"/>
      </c:catAx>
      <c:valAx>
        <c:axId val="41045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52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864-9706-4854-BD40-F79F9FDF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225-E195-48AE-A522-F492592F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F41-4480-4E10-808B-8C82F1A8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98F-05A6-45EB-81AB-F952F23F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6FE-DE75-41B4-A3A3-2A4F623C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9BE-D60B-4D7C-8D6F-EB4308AA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0D1-7A34-4688-90FF-431E10F9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28D-DF43-4EF0-AA40-457FEFEA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F5E-62AF-43D8-9DA4-AEDB5A56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CF3-FAB1-4DE4-9E7E-54B73CB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0B1-FBAB-4762-8166-DBF70767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C7A-8AA6-45F0-A9A0-3A06BE1F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06E0-31AB-49A8-B001-8788BBD12F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