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8426"/>
        <c:axId val="26612287"/>
      </c:barChart>
      <c:catAx>
        <c:axId val="2078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12287"/>
        <c:crosses val="autoZero"/>
        <c:auto val="1"/>
        <c:lblAlgn val="ctr"/>
        <c:lblOffset val="100"/>
        <c:noMultiLvlLbl val="0"/>
      </c:catAx>
      <c:valAx>
        <c:axId val="266122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8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D1BB-4474-419D-888E-830CFE75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1CD-FCCE-43C2-A19F-48DD55C6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CF4-4F85-4DEB-A922-93BAFBEC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757-E8E5-43EB-901A-09174A6E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9ED-F9C2-4C69-891E-D3EB60DF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567-707F-44AA-9DEC-7E24D2EC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F7D-5988-47DA-9F6B-59169355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20F-0CAF-4274-8B40-217E2ACC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FBA1-1B22-4FAA-8CC1-BB536E17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7FB-EA1C-47B2-86AB-2E2693AB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023-6D41-4345-8C68-683C8FA8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085-017F-4E80-98CB-1C0C57C0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D8515-D16D-4D9E-AEE5-384BFEB472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