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24181"/>
        <c:axId val="18126719"/>
      </c:barChart>
      <c:catAx>
        <c:axId val="61824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6719"/>
        <c:crosses val="autoZero"/>
        <c:auto val="1"/>
        <c:lblAlgn val="ctr"/>
        <c:lblOffset val="100"/>
        <c:noMultiLvlLbl val="0"/>
      </c:catAx>
      <c:valAx>
        <c:axId val="18126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4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4E1-6DEA-447B-9D0E-2AD23BD6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C4C-3015-45FB-BE22-928EDD0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4E9-1A00-4569-A958-5357F1DB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6CF-9656-44AC-8AAE-E1812A11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880-9B17-4875-8B84-8E2005B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23A-587D-46A6-9D66-71285FE4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CF2-4DB2-45B9-B1F5-18719CC2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D18-B892-4345-9D21-6C9CC2A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06A-E092-499A-85B9-3EDD2A27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336-AE69-4CBC-9649-163B0D35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F28-073D-4F64-A95F-D1EEF2E7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226-F799-4C69-B0C3-136B50D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981F-95E0-4C91-B4EF-42C381AF43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