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10298"/>
        <c:axId val="26942082"/>
      </c:barChart>
      <c:catAx>
        <c:axId val="540102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42082"/>
        <c:crosses val="autoZero"/>
        <c:auto val="1"/>
        <c:lblAlgn val="ctr"/>
        <c:lblOffset val="100"/>
        <c:noMultiLvlLbl val="0"/>
      </c:catAx>
      <c:valAx>
        <c:axId val="26942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102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569-2E43-4DBD-BB73-FFFF9B3E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DF2-DA11-47A3-9635-92540C5A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4D0-E464-425E-8147-29A3CB58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570D-4C40-43AD-A897-3F72EAAD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933-1384-411B-80F2-E8B5D91C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E955-AF21-4E64-BAB2-344E5A97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74AB-1F6C-4C43-9088-84D444A1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EA8-DD05-45BB-8708-EF71256E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62A-D902-4CC9-B4B8-5F8C196E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26D-E654-4447-942F-9555E76D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4A2A-DFB3-431A-BEFD-AF706D7F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C39-6330-4A53-80AB-E18B1FCB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29D88-285D-4147-9E23-B1228A5BDE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