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59896"/>
        <c:axId val="82185735"/>
      </c:barChart>
      <c:catAx>
        <c:axId val="61598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85735"/>
        <c:crosses val="autoZero"/>
        <c:auto val="1"/>
        <c:lblAlgn val="ctr"/>
        <c:lblOffset val="100"/>
        <c:noMultiLvlLbl val="0"/>
      </c:catAx>
      <c:valAx>
        <c:axId val="821857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598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4FA5-B0FE-4510-AA83-E88D6A11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CA72-CA87-48B8-99FD-70DB75AE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8EF2-4795-4F33-93A1-231EE076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C873-28B8-4483-915A-963B7C578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57F5-0E44-47B9-A939-AA0FF166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7FBF-5208-474F-9BC0-F7371CF8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349C-B522-4007-B172-3DBD780B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42C3-CFD0-4EEC-94AE-833757B1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193A-09B7-4548-8B05-3AED44EC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3CDD-AEF3-4756-86E6-7162B399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5975-2BEC-4C84-ABF8-5281567B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1B21-B111-49AD-A201-58E270D4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71F437-E30A-44F7-8DC5-0AB4A90606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