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08932"/>
        <c:axId val="79881626"/>
      </c:barChart>
      <c:catAx>
        <c:axId val="22808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1626"/>
        <c:crosses val="autoZero"/>
        <c:auto val="1"/>
        <c:lblAlgn val="ctr"/>
        <c:lblOffset val="100"/>
        <c:noMultiLvlLbl val="0"/>
      </c:catAx>
      <c:valAx>
        <c:axId val="79881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08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500-D5F0-44FE-8281-177C57E2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AEA-DB7A-40EA-8E06-A817D63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EC1-D4CA-4BDA-BA87-CF1EEC49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6FF-0C52-4306-B921-A91D5BE6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101-6E3C-433A-8290-2516AD7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A21-1D98-420F-9A3A-BDCCC96B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750-B684-4C33-BF0E-9CF8C9E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CF7-DD6F-405B-9C35-9D6F9F3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6D2-7334-44E2-ABC5-F0B09B25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9F7-3BAB-4EB8-86BB-16916B1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AE1-CAD7-47CE-BBEA-CB08FA4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EDB-A31F-4815-9DC0-DED58A7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47A21-7804-4236-B603-DAADCC45F1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