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57364"/>
        <c:axId val="52738525"/>
      </c:barChart>
      <c:catAx>
        <c:axId val="77257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38525"/>
        <c:crosses val="autoZero"/>
        <c:auto val="1"/>
        <c:lblAlgn val="ctr"/>
        <c:lblOffset val="100"/>
        <c:noMultiLvlLbl val="0"/>
      </c:catAx>
      <c:valAx>
        <c:axId val="52738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57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D46-3503-4624-ACD0-861F21D4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E48-19AA-4FFA-A7F3-6F9C492B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7E1-CD29-4AF9-AEDF-B6EEC205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E85-9A24-4C86-B804-5E381578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77F-D848-44D4-93EE-2B05084B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56E-6F37-4F28-BA3C-46384C0D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9FC-C160-4452-95F9-1A608A8F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140-C01A-4DA6-8535-5C694B78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CD6-1824-4D96-843A-892CE7D7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5A6-C5A2-4741-B63E-911C5D8A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B0E-D0EF-4D17-B553-C35A693A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E5A-B50F-4588-9654-8EDAAF99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96036-8B84-4C5F-9FD4-32B5B6BE24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