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8483"/>
        <c:axId val="44671108"/>
      </c:barChart>
      <c:catAx>
        <c:axId val="42388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1108"/>
        <c:crosses val="autoZero"/>
        <c:auto val="1"/>
        <c:lblAlgn val="ctr"/>
        <c:lblOffset val="100"/>
        <c:noMultiLvlLbl val="0"/>
      </c:catAx>
      <c:valAx>
        <c:axId val="44671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8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18C-AD45-4C20-8D72-ADF21F79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67C-69FA-49F9-B736-D003397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D45-9CD0-4E0F-868B-8E7566D5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E1C-3B04-4BE6-A0A0-616042BA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B0B-F99A-4A7A-B9F5-AC23357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C31-DE61-4DEC-82B6-2721190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C74-1B4E-4C68-B5A2-378233C6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F3E-BDB4-4B04-96CF-C9CB081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868-AF94-49FF-932A-8DCE95F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041-BEF2-4D50-8782-637D5A9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81E-302E-4398-A7D0-7CD93CD5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1F1-903A-4A20-9257-F2F5AF2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CEAE5-5452-4B75-B67D-F004A8066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