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82807"/>
        <c:axId val="18524929"/>
      </c:barChart>
      <c:catAx>
        <c:axId val="38882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4929"/>
        <c:crosses val="autoZero"/>
        <c:auto val="1"/>
        <c:lblAlgn val="ctr"/>
        <c:lblOffset val="100"/>
        <c:noMultiLvlLbl val="0"/>
      </c:catAx>
      <c:valAx>
        <c:axId val="18524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2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C21-5F98-4FC7-93C3-CE9072AB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2D6-4FEC-46FA-8E8C-684D066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9A5-2561-4824-BF94-2E65EB3E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D45-03F3-4223-A8F0-6DF6A51C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FC9-581E-41A9-BC35-F35BDE8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190-E1D9-4AB2-886E-B23F7AB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074-E1F8-44C3-94C1-98FBB34E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135-9F60-4452-9D32-0AB623D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9EE-0744-4F34-8F1F-C4589E0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8B0-E33F-480D-8ED4-16DDD70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03F-F91D-4847-B4EE-4D0628D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D3E-9333-40AC-8E82-EF136E1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31AAE-3A94-446E-A924-FB7AE32F7B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